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C74DE-17C2-438B-8CA0-BF8A382B0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8DDF-4F6B-4F8F-80B4-6B6EDEB3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E411C-5348-40A0-92A5-E6CD46F97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DA64F-01AA-46ED-97F8-0557C5EB3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7111AA-71D7-4954-A523-EB788112F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6B2547-CBD8-46A8-AFF4-BCB0F29CB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34916F-86B1-4D9C-9FAA-F4339D4CE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A2C772-448E-44FF-89ED-9FCD2779B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08B51B-C2F0-4723-90E9-A5961B0BD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D77F33-92F3-4959-AC6F-7BFACCBDE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114F92-800D-4F87-9C8B-80F84EA3D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C8EA-DBCA-4589-BDD5-D7483B94A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B47546-2925-47C2-9648-F2F5DEB88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6CB9FF-3EF9-49E0-BEFA-863DBE0C5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7D4D6D-AA03-4976-9798-7969B75E0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8B6890C-FD7A-4F6C-A3B8-6A2E7303C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24B9F18-D9AA-4E20-B522-AE54FAAE9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4F43B0-EA7A-403C-A512-87284929D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D6904-4779-49D2-AB75-5E52A65BA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731B2-FBA4-4401-9DF0-92B53EB4A5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B2514-B474-4E5A-9C36-166524692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B2671-3565-4590-B2FE-19C03D1DC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B2284-4152-4B43-9340-DFE6E144D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84ADF-F4EC-403B-B51A-A7684FD8F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CBDF2-4DA1-4674-BC37-E9873E31B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2F4B2-BB45-44F1-A1E5-F583AFFA9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CB40C-D99F-4B86-ABD4-6B43BEB72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4DFD9-FAC0-4A75-A50D-999744011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73282A-85D2-4AE8-9A5D-C1BD1424F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D11C7-DFA9-48E8-A551-404742E60E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31E84CD-AF1C-425A-8347-354F9B07856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BD56FD4-F22D-4518-ADCD-9EA9AF9F69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2F9475D-656F-478C-A60B-680817C8CA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5A78-B1EE-4209-8F42-CAF7599BC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E3F8112-719B-432E-BAF7-D08EC08678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1D39418-8A18-47D6-9E37-90F8E30B17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537C5E3-B93D-4F1E-AC5C-B45198447C0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181641B-D042-4659-B303-360EEC7C50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B5324F5-59E2-4723-9BF3-E5432A50C4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4899157-A0AA-4004-A68B-259C52F9FF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8307C3E-7DE3-4F2A-8338-9289727B96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4260064-3C96-429E-8020-7BE017A3FC0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C4E7E7F-C52C-4C2E-8DF4-D5321113555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6CD0D-66E0-4FFE-93BF-760FFF82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C52F-9D39-46CF-B765-2E3CC42DE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6B64-71FE-481A-8998-28AC7B97A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1C17-F99A-49E9-98B5-85B62B7E6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E5B9-A66D-4C12-BC6E-7CF186ADF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3FDD-E012-4546-86AF-1B6F34860CB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C985-EE3F-4EBE-9687-F76605D606E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13CF0-8FC3-4921-86FF-AD6B0661071F}"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0385-DD56-4CF4-8844-059BA47B64D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Hitlerjugend_Allgemeine_Flagge.svg" TargetMode="Externa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authordon.com/images/site_graphics/hilter_youth_mind_contol.jpg&amp;imgrefurl=http://www.authordon.com/index.php?page_id=272&amp;usg=__jmRsf0q9aoTcQhVQ3VhZypLR12k=&amp;h=390&amp;w=608&amp;sz=41&amp;hl=en&amp;start=12&amp;um=1&amp;itbs=1&amp;tbnid=nX8iVxfXBmevmM:&amp;tbnh=87&amp;tbnw=136&amp;prev=/images?q=HITLER+YOUTH&amp;hl=en&amp;safe=active&amp;rls=com.microsoft:en-us&amp;um=1" TargetMode="External"/><Relationship Id="rId2" Type="http://schemas.openxmlformats.org/officeDocument/2006/relationships/image" Target="../media/image7.jpeg"/><Relationship Id="rId3" Type="http://schemas.openxmlformats.org/officeDocument/2006/relationships/hyperlink" Target="http://en.wikipedia.org/wiki/File:Bundesarchiv_Bild_133-393,_Worms,_Luftschutz&#252;bung_der_Hitlerjugend.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histclo.com/imagef/youth/nat/ger/hitler/org/bdm/bdm03s.jpg&amp;imgrefurl=http://histclo.com/Youth/youth/org/nat/hitler/org/hjo-bdm.htm&amp;usg=__Bi5kCh7FHemHAD8TcJzSDGPqAes=&amp;h=768&amp;w=558&amp;sz=39&amp;hl=en&amp;start=193&amp;um=1&amp;itbs=1&amp;tbnid=svbVnov8mTh0rM:&amp;tbnh=142&amp;tbnw=103&amp;prev=/images?q=HITLER+YOUTH&amp;ndsp=18&amp;hl=en&amp;safe=active&amp;rls=com.microsoft:en-us&amp;sa=N&amp;start=180&amp;um=1"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histclo.com/Youth/youth/org/nat/hitler/unk/unk-nat01.htm"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russelspictures.com/wp-content/photos/WWII-2/hitler-youth-girls.jpg&amp;imgrefurl=http://www.brusselspictures.com/cinquantenaire/musee-royal-de-larmee/&amp;usg=__HDMaEtltSh3fxBygIzZeCexgVOg=&amp;h=1267&amp;w=1689&amp;sz=410&amp;hl=en&amp;start=189&amp;um=1&amp;itbs=1&amp;tbnid=ttZw1-dsv-yfgM:&amp;tbnh=113&amp;tbnw=150&amp;prev=/images?q=HITLER+YOUTH&amp;ndsp=18&amp;hl=en&amp;safe=active&amp;rls=com.microsoft:en-us&amp;sa=N&amp;start=180&amp;um=1"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371600" y="2133720"/>
            <a:ext cx="6400800" cy="13716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y: Kayla McCarty, Heather Vagasky, Gretchen Cruz &amp; Danielle Dorner</a:t>
            </a:r>
            <a:endParaRPr b="0" lang="en-US" sz="2400" spc="-1" strike="noStrike">
              <a:solidFill>
                <a:srgbClr val="ffffff"/>
              </a:solidFill>
              <a:latin typeface="Constantia"/>
            </a:endParaRPr>
          </a:p>
        </p:txBody>
      </p:sp>
      <p:pic>
        <p:nvPicPr>
          <p:cNvPr id="171" name="Title 1" descr=""/>
          <p:cNvPicPr/>
          <p:nvPr/>
        </p:nvPicPr>
        <p:blipFill>
          <a:blip r:embed="rId1"/>
          <a:stretch/>
        </p:blipFill>
        <p:spPr>
          <a:xfrm>
            <a:off x="-219240" y="-6480"/>
            <a:ext cx="9429840" cy="2073240"/>
          </a:xfrm>
          <a:prstGeom prst="rect">
            <a:avLst/>
          </a:prstGeom>
          <a:ln w="0">
            <a:noFill/>
          </a:ln>
        </p:spPr>
      </p:pic>
      <p:pic>
        <p:nvPicPr>
          <p:cNvPr id="172" name="Picture 3" descr="HitlerYouth.jpg"/>
          <p:cNvPicPr/>
          <p:nvPr/>
        </p:nvPicPr>
        <p:blipFill>
          <a:blip r:embed="rId2"/>
          <a:stretch/>
        </p:blipFill>
        <p:spPr>
          <a:xfrm>
            <a:off x="1828800" y="3124080"/>
            <a:ext cx="5334120" cy="357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304920"/>
            <a:ext cx="8229600" cy="58212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y name is Hadar Kabochi I lived with my mother Bernadette Kabochi, my father Adalrik Kabochi and my little sister Ghislaine Kabochi. We lived in Germany from 1935 to 1940 and then we moved to the U.S. While we lived in Germany me and my little sister were members in the Hitler Youth Group.</a:t>
            </a:r>
            <a:endParaRPr b="0" lang="en-US" sz="2800" spc="-1" strike="noStrike">
              <a:solidFill>
                <a:srgbClr val="ffffff"/>
              </a:solidFill>
              <a:latin typeface="Constantia"/>
            </a:endParaRPr>
          </a:p>
        </p:txBody>
      </p:sp>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75" name="Picture 9" descr="[photo]"/>
          <p:cNvPicPr/>
          <p:nvPr/>
        </p:nvPicPr>
        <p:blipFill>
          <a:blip r:embed="rId1"/>
          <a:stretch/>
        </p:blipFill>
        <p:spPr>
          <a:xfrm>
            <a:off x="609480" y="3352680"/>
            <a:ext cx="8153640" cy="321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Content Placeholder 3" descr="http://upload.wikimedia.org/wikipedia/commons/thumb/6/67/Hitlerjugend_Allgemeine_Flagge.svg/120px-Hitlerjugend_Allgemeine_Flagge.svg.png">
            <a:hlinkClick r:id="rId1"/>
          </p:cNvPr>
          <p:cNvPicPr/>
          <p:nvPr/>
        </p:nvPicPr>
        <p:blipFill>
          <a:blip r:embed="rId2"/>
          <a:stretch/>
        </p:blipFill>
        <p:spPr>
          <a:xfrm>
            <a:off x="1447920" y="152280"/>
            <a:ext cx="5829120" cy="2963880"/>
          </a:xfrm>
          <a:prstGeom prst="rect">
            <a:avLst/>
          </a:prstGeom>
          <a:ln w="0">
            <a:noFill/>
          </a:ln>
        </p:spPr>
      </p:pic>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78" name="Picture 4" descr="http://www.nobeliefs.com/images/Hitler%26Church.jpg"/>
          <p:cNvPicPr/>
          <p:nvPr/>
        </p:nvPicPr>
        <p:blipFill>
          <a:blip r:embed="rId3"/>
          <a:stretch/>
        </p:blipFill>
        <p:spPr>
          <a:xfrm>
            <a:off x="1523880" y="3352680"/>
            <a:ext cx="6172200" cy="314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pfnX8iVxfXBmevmM:" descr="http://t2.gstatic.com/images?q=tbn:nX8iVxfXBmevmM:http://www.authordon.com/images/site_graphics/hilter_youth_mind_contol.jpg">
            <a:hlinkClick r:id="rId1"/>
          </p:cNvPr>
          <p:cNvPicPr/>
          <p:nvPr/>
        </p:nvPicPr>
        <p:blipFill>
          <a:blip r:embed="rId2"/>
          <a:stretch/>
        </p:blipFill>
        <p:spPr>
          <a:xfrm>
            <a:off x="457200" y="1523880"/>
            <a:ext cx="5334120" cy="2057400"/>
          </a:xfrm>
          <a:prstGeom prst="rect">
            <a:avLst/>
          </a:prstGeom>
          <a:ln w="0">
            <a:noFill/>
          </a:ln>
        </p:spPr>
      </p:pic>
      <p:sp>
        <p:nvSpPr>
          <p:cNvPr id="18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81" name="Picture 4" descr="http://upload.wikimedia.org/wikipedia/commons/thumb/6/6c/Bundesarchiv_Bild_133-393%2C_Worms%2C_Luftschutz%C3%BCbung_der_Hitlerjugend.jpg/180px-Bundesarchiv_Bild_133-393%2C_Worms%2C_Luftschutz%C3%BCbung_der_Hitlerjugend.jpg">
            <a:hlinkClick r:id="rId3"/>
          </p:cNvPr>
          <p:cNvPicPr/>
          <p:nvPr/>
        </p:nvPicPr>
        <p:blipFill>
          <a:blip r:embed="rId4"/>
          <a:stretch/>
        </p:blipFill>
        <p:spPr>
          <a:xfrm>
            <a:off x="2438280" y="3962520"/>
            <a:ext cx="64771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Content Placeholder 3" descr="http://t1.gstatic.com/images?q=tbn:svbVnov8mTh0rM:http://histclo.com/imagef/youth/nat/ger/hitler/org/bdm/bdm03s.jpg">
            <a:hlinkClick r:id="rId1"/>
          </p:cNvPr>
          <p:cNvPicPr/>
          <p:nvPr/>
        </p:nvPicPr>
        <p:blipFill>
          <a:blip r:embed="rId2"/>
          <a:stretch/>
        </p:blipFill>
        <p:spPr>
          <a:xfrm>
            <a:off x="762120" y="2286000"/>
            <a:ext cx="3581280" cy="3200400"/>
          </a:xfrm>
          <a:prstGeom prst="rect">
            <a:avLst/>
          </a:prstGeom>
          <a:ln w="0">
            <a:noFill/>
          </a:ln>
        </p:spPr>
      </p:pic>
      <p:sp>
        <p:nvSpPr>
          <p:cNvPr id="18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84" name="Picture 4" descr="http://histclo.com/youth/youth/image/imgmain/hj01.jpg"/>
          <p:cNvPicPr/>
          <p:nvPr/>
        </p:nvPicPr>
        <p:blipFill>
          <a:blip r:embed="rId3"/>
          <a:stretch/>
        </p:blipFill>
        <p:spPr>
          <a:xfrm>
            <a:off x="5257800" y="1905120"/>
            <a:ext cx="3657600" cy="40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Content Placeholder 3" descr="http://histclo.com/youth/youth/image/imgnat/futurls.jpg">
            <a:hlinkClick r:id="rId1"/>
          </p:cNvPr>
          <p:cNvPicPr/>
          <p:nvPr/>
        </p:nvPicPr>
        <p:blipFill>
          <a:blip r:embed="rId2"/>
          <a:stretch/>
        </p:blipFill>
        <p:spPr>
          <a:xfrm>
            <a:off x="838080" y="1600200"/>
            <a:ext cx="3353040" cy="4800600"/>
          </a:xfrm>
          <a:prstGeom prst="rect">
            <a:avLst/>
          </a:prstGeom>
          <a:ln w="0">
            <a:noFill/>
          </a:ln>
        </p:spPr>
      </p:pic>
      <p:sp>
        <p:nvSpPr>
          <p:cNvPr id="18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87" name="Picture 4" descr="http://www.holocaustresearchproject.org/holoprelude/images/junior%20member%20of%20the%20Hitler%20Youth%20hands%20Hitler%20a%20letter%20written%20by%20the%20child's%20sick%20mother.jpg"/>
          <p:cNvPicPr/>
          <p:nvPr/>
        </p:nvPicPr>
        <p:blipFill>
          <a:blip r:embed="rId3"/>
          <a:stretch/>
        </p:blipFill>
        <p:spPr>
          <a:xfrm>
            <a:off x="5486400" y="1600200"/>
            <a:ext cx="31240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http://www.holocaustresearchproject.org/holoprelude/images/Adolf%20Hitler%20greets%20members%20of%20the%20Arbeiterjugend%20sm.jpg"/>
          <p:cNvPicPr/>
          <p:nvPr/>
        </p:nvPicPr>
        <p:blipFill>
          <a:blip r:embed="rId1"/>
          <a:stretch/>
        </p:blipFill>
        <p:spPr>
          <a:xfrm>
            <a:off x="609480" y="1905120"/>
            <a:ext cx="4419720" cy="4038480"/>
          </a:xfrm>
          <a:prstGeom prst="rect">
            <a:avLst/>
          </a:prstGeom>
          <a:ln w="0">
            <a:noFill/>
          </a:ln>
        </p:spPr>
      </p:pic>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90" name="Picture 4" descr="http://www.holocaustresearchproject.org/holoprelude/images/Banne%20flag.jpg"/>
          <p:cNvPicPr/>
          <p:nvPr/>
        </p:nvPicPr>
        <p:blipFill>
          <a:blip r:embed="rId2"/>
          <a:stretch/>
        </p:blipFill>
        <p:spPr>
          <a:xfrm>
            <a:off x="5715000" y="1600200"/>
            <a:ext cx="2895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ipfttZw1-dsv-yfgM:" descr="http://t0.gstatic.com/images?q=tbn:ttZw1-dsv-yfgM:http://www.brusselspictures.com/wp-content/photos/WWII-2/hitler-youth-girls.jpg">
            <a:hlinkClick r:id="rId1"/>
          </p:cNvPr>
          <p:cNvPicPr/>
          <p:nvPr/>
        </p:nvPicPr>
        <p:blipFill>
          <a:blip r:embed="rId2"/>
          <a:stretch/>
        </p:blipFill>
        <p:spPr>
          <a:xfrm>
            <a:off x="304920" y="2209680"/>
            <a:ext cx="4905360" cy="3124440"/>
          </a:xfrm>
          <a:prstGeom prst="rect">
            <a:avLst/>
          </a:prstGeom>
          <a:ln w="0">
            <a:noFill/>
          </a:ln>
        </p:spPr>
      </p:pic>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93" name="Picture 4" descr="http://t3.gstatic.com/images?q=tbn:jbBrLas3Y4UvLM:http://warrelics.eu/forum/military_photos/non-combat-uniforms-related-insignia-3-reich/8762d1233051351t-hitler-youth-assortment-1.jpg"/>
          <p:cNvPicPr/>
          <p:nvPr/>
        </p:nvPicPr>
        <p:blipFill>
          <a:blip r:embed="rId3"/>
          <a:stretch/>
        </p:blipFill>
        <p:spPr>
          <a:xfrm>
            <a:off x="5715000" y="2286000"/>
            <a:ext cx="312408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19:06:33Z</dcterms:created>
  <dc:creator>Information Technology</dc:creator>
  <dc:description/>
  <dc:language>en-US</dc:language>
  <cp:lastModifiedBy>Information Technology</cp:lastModifiedBy>
  <dcterms:modified xsi:type="dcterms:W3CDTF">2010-02-17T19:28:14Z</dcterms:modified>
  <cp:revision>8</cp:revision>
  <dc:subject/>
  <dc:title>Hitler Youth Group</dc:title>
</cp:coreProperties>
</file>